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12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99B1-3F17-4539-A404-730F5704F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ne Morphogenetic Proteins (Bmps) are secreted growth factors that play crucial roles in animal development across the phylogenetic spectr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mp signaling results in the phosphorylation and nuclear translocation of Smads, downstream signal transducers that bind DNA. In Drosophila,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inc finger protein Schnurri (Shn) plays a key role in signaling by the Bmp2/Bmp4 homolog Decapentaplegic (Dpp), by forming a Shn/Smad re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x on defined promoter elements in the brinker (brk) gene. Brk is a transcriptional repressor that downregulates Dpp target ge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a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ment 133, 4025-4034 (200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ne Morphogenetic Proteins (Bmps) are secreted growth factors that play crucial roles in animal development across the phylogenetic spectr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mp signaling results in the phosphorylation and nuclear translocation of Smads, downstream signal transducers that bind DNA. In Drosophila,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inc finger protein Schnurri (Shn) plays a key role in signaling by the Bmp2/Bmp4 homolog Decapentaplegic (Dpp), by forming a Shn/Smad re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x on defined promoter elements in the brinker (brk) gene. Brk is a transcriptional repressor that downregulates Dpp target ge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a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ment 133, 4025-4034 (200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tweak the standard definition of ‘regulates’ to be occurrent-based instead of process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 have been reviewed, can be implemente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 have been reviewed, can be implemente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some relationship (currently undefined) between ‘transcription regulator activity’  and ‘regulation of transcription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ne Morphogenetic Proteins (Bmps) are secreted growth factors that play crucial roles in animal development across the phylogenetic spectr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mp signaling results in the phosphorylation and nuclear translocation of Smads, downstream signal transducers that bind DNA. In Drosophila,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inc finger protein Schnurri (Shn) plays a key role in signaling by the Bmp2/Bmp4 homolog Decapentaplegic (Dpp), by forming a Shn/Smad re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x on defined promoter elements in the brinker (brk) gene. Brk is a transcriptional repressor that downregulates Dpp target ge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a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ment 133, 4025-4034 (200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5EEB-785F-4D18-866C-98004512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F345-FA6E-4D05-8677-0F324CB5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970-3F0E-4380-A11F-7F6AE939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EE1-1C4D-4D47-A824-A3C36327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4C9-6347-4599-A624-012A7B48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F1F-3676-4FAD-B813-D642181C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6D9F-AFA1-4007-B1E8-6DD08214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0E1-2C90-4E70-B43E-A3A1DF59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34E-CB17-4AC3-9988-C1AE7A02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59A-1917-4A4E-868C-EF077B8A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8C1F-24B1-4139-8453-08D1E96C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402-FF43-48DC-92D1-5A554D32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7D3B-2BDC-48A4-8F1E-7B474A943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‘regulates’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, David, Ta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aontology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3102120" cy="1219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267080" y="1905120"/>
            <a:ext cx="4362480" cy="3612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al Trans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08040" y="225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219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cascade of processes by which a signal interacts with a receptor, causing a change in the level or activity of a second messenger or other downstream target, and </a:t>
            </a:r>
            <a:r>
              <a:rPr b="0" lang="en-US" sz="1700" spc="-1" strike="noStrike">
                <a:solidFill>
                  <a:srgbClr val="00ff00"/>
                </a:solidFill>
                <a:latin typeface="Arial"/>
              </a:rPr>
              <a:t>ultimately effecting a change in the functioning of the cel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4648320" cy="4046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MP Signaling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441043" r="0" b="0"/>
          <a:stretch/>
        </p:blipFill>
        <p:spPr>
          <a:xfrm>
            <a:off x="380880" y="2268360"/>
            <a:ext cx="3581640" cy="3446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38480" y="4114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76400" y="99072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ological objective of BMP signaling is to regulate tran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3640" y="179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371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0" t="2957" r="0" b="0"/>
          <a:stretch/>
        </p:blipFill>
        <p:spPr>
          <a:xfrm>
            <a:off x="5173560" y="1523880"/>
            <a:ext cx="2522520" cy="4997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MP Signaling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39625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76400" y="99072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ological objective of BMP signaling is to regulate tran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3640" y="179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371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2957" r="0" b="0"/>
          <a:stretch/>
        </p:blipFill>
        <p:spPr>
          <a:xfrm>
            <a:off x="76320" y="1447920"/>
            <a:ext cx="2522520" cy="4997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rcRect l="9328" t="4579" r="517" b="0"/>
          <a:stretch/>
        </p:blipFill>
        <p:spPr>
          <a:xfrm>
            <a:off x="3429000" y="2590920"/>
            <a:ext cx="5638680" cy="2701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Intraontology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function to mole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relationship between enzyme regulators and the enzyme activities themsel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change MF ontology from being a strict is_a hierarc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or activity (66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or activity (60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ibitor activity (90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Fun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ntraontology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59280" y="2259000"/>
            <a:ext cx="3071880" cy="3282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3092400" cy="120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-ontology Links BP-&gt;M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32440" y="1600200"/>
            <a:ext cx="3730680" cy="510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3092400" cy="120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-ontology Links MF-&gt;B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3092400" cy="120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84720" y="2427120"/>
            <a:ext cx="3957480" cy="290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90240" y="5410080"/>
            <a:ext cx="775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ar functions that always occur in a single type of biological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a part of that biological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ure of Biological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products execute molecular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s of functions can be regulatory (ex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tease inhibitor ac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can take part in regulatory biological processes (ex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GF be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eptor ac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Beginning, There Were Two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_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re Were Also  ‘Regulation’ Ter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93432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made the ‘regulation of X’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art_o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‘X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438800" cy="20192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4952880" y="3809880"/>
            <a:ext cx="1371600" cy="6098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791320" y="4495320"/>
            <a:ext cx="380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55760" y="579132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it’s not real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rt_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not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art_o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ion of X =  “Any process that modulates the frequency, rate or extent of X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cess can regulate X without being an integral part of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ed ‘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regul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4038480"/>
            <a:ext cx="42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kinds types of regulation were described by the original regulation terms in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[i] regulation of biolog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[i] regulation of biological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[i] regulation of mole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a- and Inter-ontology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5638680" cy="2311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7320" y="1523880"/>
            <a:ext cx="898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rents can regulate oc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rent = biological process OR (execution of a) molecular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require any additional relationship types (like has_part, for ins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MP Signaling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441043" r="0" b="0"/>
          <a:stretch/>
        </p:blipFill>
        <p:spPr>
          <a:xfrm>
            <a:off x="380880" y="2268360"/>
            <a:ext cx="3581640" cy="3446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38480" y="4114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76400" y="99072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ological objective of BMP signaling is to regulate tran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3640" y="179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371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0" t="2957" r="0" b="0"/>
          <a:stretch/>
        </p:blipFill>
        <p:spPr>
          <a:xfrm>
            <a:off x="5173560" y="1523880"/>
            <a:ext cx="2522520" cy="4997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6:51:35Z</dcterms:created>
  <dc:creator>Tanya Berardini</dc:creator>
  <dc:description/>
  <dc:language>en-US</dc:language>
  <cp:lastModifiedBy>Iry Witham</cp:lastModifiedBy>
  <dcterms:modified xsi:type="dcterms:W3CDTF">2008-05-19T17:17:15Z</dcterms:modified>
  <cp:revision>9</cp:revision>
  <dc:subject/>
  <dc:title>The ‘regulates’ relationships</dc:title>
</cp:coreProperties>
</file>